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716D6-45F3-4FEA-85A9-9394ADF98DA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EDA1D-DBB1-47AB-810B-6F6929944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DD33A-40A5-4F12-8ADD-27AACD2DE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4176F-73EF-4B5F-91FD-F2D75F6FC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851F6-9BE2-404D-B247-495F9D5DA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A3468-5D99-4176-9E9D-B99C23720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F129B-05A0-4191-9E3D-F8EEF47C6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E41D0-724C-4A42-8FB0-BADC6AAE3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76748-E1A5-4135-87CD-BE01AD8E8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20199-5C58-4F76-9A9B-912B80205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64C05-851B-4C0C-834C-82DFEF17C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7FB67-6655-4222-8503-0BED0215F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02BCC-8674-4127-8817-D9A125807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46048-262E-41D5-B233-21551EB56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1F522-CD31-4E18-9B12-1B1B3B0E9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C75C4-6791-4005-B636-40FCF27E0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354A8-A217-4DD2-9737-233778103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B7546-246B-48C5-8687-274B38966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C49A1-E711-4701-B7F0-4B1AAA6F1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9B188-3DD6-44A6-B96D-DC9EABAAC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63FE9-7DAD-43C9-BB5A-A28763286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3FCE7-183D-4BB9-9AED-49FD57544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25BC3-3C0A-47FA-88B4-115C59D4F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7A98D-88C6-43EB-964F-7A3067506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D4811-182B-4848-A5A6-A0FF0B38F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F2C6C-2E00-466D-AAAF-9B0AB8D5B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88206-50CE-4327-9993-1604AF65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346EC-D93F-4C9A-A93B-307843844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D9191-9B21-4022-9534-C2454B71E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14204-358E-4B0F-B76A-19FF2D3C1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69EF9-AEA4-46BA-92F3-47D282E39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89E9E-ABF6-47EC-B545-D14E3EEC8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9716B-B356-46A5-BED3-1DD9397C7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BB2B6-AB34-4957-832B-3CFDEA7AA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1F662-0587-4BA1-8C68-25665D746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23F62-9C10-4135-A340-3D5C5C858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FE1BB-8E52-4939-8C3B-0026B87EE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FEF08-4C78-4516-ACF3-74264178E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2FFE788-7771-410B-88D3-C52E357F4A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81EA4D0-38A6-431D-80D5-8DDAEDCDB1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EB00E81-6C03-423A-9C4E-B229F8346D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4AA2092-8A0F-40D4-9A30-992518AD43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6D1A3BF-4EAA-4E32-BFCA-A9D74DAD647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E688563-C083-4D3B-8433-2318BD2996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1E363E-92B9-489D-AD28-80172CF178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680697E-7DB7-4540-B1F0-9113901589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07D5BAD-CC3D-41BB-8DAD-A9B183AD5D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5A31979-78F8-482A-9F85-3834420D2E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5920AEB-5C1D-4EFD-BB39-25B4986A2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9AC37C2-620B-4EC5-AF12-F4A7F10D55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E31AE95-9E1D-4B1C-94EE-8A3F7D5193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EF0ED0E-9E53-4F12-AADF-97B87E4CF9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5321ADF-C0AE-4B79-93CD-7F3CD43907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38484945-2CE2-4907-8FA0-B646973C61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9FA6940-52CE-4197-A954-E783F5B3B4A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56BCB38-A149-48D5-8E52-6895AB80CEE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A6064F8-2E1D-439B-A997-A83031B245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ABF10AE-4B9E-47E7-B2EF-F6C79BD563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3BA63F8-642D-4946-90FC-7EC76C3D17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401591E7-21A0-4DE7-81D5-B70345006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CD54707-ACCC-4296-94C0-B160C2AFCD4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7B12B3B-6C8E-488B-BF9E-554A0CE940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4EA97B3-5B09-4B6D-9F1E-1FE3370FA8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1FEF634-0ED2-446F-ACA9-EEEE006BF6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8235F22-5655-4A5A-A641-23C6C6C23D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4F02147-B2F7-4301-9A47-C90B832BAF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6028165-091E-42D5-8922-B2939F9936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ECBA9FD-6469-4D83-8A5F-2A07687845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E98D3E5-D2A8-4CD4-9095-D3D4DAEBA3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8767190-0B6F-43F0-B02F-5EBE07F95B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624465B-ECDA-4119-AB35-A89D609ACB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849657-E0F1-4275-AB7E-29C1D2DE10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CC4BD7B-1F9B-4648-BF7A-3E7A5C7AC4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9360560-087A-48FC-8780-92F5BA5B95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F0B284B-28F9-49B2-87AC-A1191303906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1E59BB8-A792-439B-A314-3AE3FC3CB3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28E4DFD-A06A-4F0F-99C8-4708FCB681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C8E6DEB-DE0B-4C31-99AC-F344EE9CF9E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93F9D5B-06C2-4E3F-B863-86F6B21E7C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B5A3DDF-5441-4B44-960C-6ACF606E80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3F53D54-E8DA-4F0F-9406-0FBB5A6C3E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06F691D-EB02-457E-B583-20DBDB16A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01167ED-DB8A-4CD6-A8DE-3F51107FFB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19D2D57-B712-449C-918C-EF618E48B6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3C9445A-1E42-463C-9F58-2A90ED18C0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D05B959-8910-46CC-BC48-DC2B6F4486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5DEB9B6-7818-4908-AD8B-3404B7F782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505B353-8913-44B0-BD5B-F61B3FBDB7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344D6F-17F7-4EA4-958C-61DB1A25005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40C1F45-1BF2-4D9F-9E93-FBEE6ACEB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9F70984-4F60-487A-A321-FE74C26D4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ACD7A32-DB09-43F2-80C2-CE5D2CCDE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F7D8ACA-1C14-4C06-BF0D-5A9A0CA43D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F85EA0-3055-4F1C-9570-D772276C34B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922EEB3-3835-4BAA-9F95-FB070D9F38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592C6F1-C6DB-4D6E-BBBB-016A5C3AC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CCD8135-99A0-4C66-ACB8-4E62CF5FD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28B4341-488A-47A4-99DF-E5864797C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D2B3F1F-FCD4-4CF5-9C30-3B21FF51E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39B7544-5458-479C-B069-6E2386968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A4BE457-C032-4ABF-82AC-8348FD49CFE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3152AD-65FE-4764-9BE1-2854F0CDF3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7C539DB-1EDC-43ED-8984-2A92930F80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A9B631C-C120-4FF4-944C-52CB36942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AD318F0-2E5E-4460-9074-ADE18F39BA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131171-D874-4185-BF86-EA4122A6B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2F0535-43AE-4959-9B03-B2DB4BD0F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453123-EF3A-44A9-BD36-BF258C2DFF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BAAC30-950D-4B4D-A41F-91979DA4F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A6A431C-A16A-42B0-A973-29A86C18C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B30C27E-5206-4057-A39E-37C364177F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4BD03C-D333-40D5-99DC-A9D8A4B218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E2052-02A0-4774-B75A-2E0F90568B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013980-8D16-4CCA-93DB-57D8ADF9E13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261E778-A4CF-4B6C-9FA3-6C6D6C64F7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5B77BE-D86E-4344-A5B5-50311E3B8B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3C5D514-21AA-44F2-8FCE-0EFEED3298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24923A0-6AE0-4C5C-9E75-852A3DC49F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A4A9380-06B4-4AE0-B57F-0E9B838C2D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AC5D664-443D-40DE-9798-7B0AD52151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FCD8CA5-E85E-4020-8EEB-FE478635B3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E9588A0-8443-4A9C-834A-AB1E6FE425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CB8663E-2E58-4B31-BC8F-8BBD7E170E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D3CD084-66DF-4311-8DDF-319DF33CC6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712360-E808-4527-9E40-8D0D7F09DE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567EDCA-1DAD-4125-9745-FF43FF35978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D141E10-2D8D-4EA6-9B52-DCE2369BE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4259834-DD74-4749-B563-401E8E5767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F0A64D5-C8A2-4D87-90CB-641661E8DE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BEB4A1A-9332-45F2-98A4-6132C6A7267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0D92A53-B244-4BD2-AD0A-3B1F28DA92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5179B05-CD86-4BBF-BBE0-E3F048D6F8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B60B6E3-0FC2-490F-B4F3-2A97B30A6F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FFAC62A-971D-4D58-A93A-33E59E4DBC9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A44022C-B63F-4419-A434-4F3CC46C7ED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FDF89BC-0BF7-484D-A670-48BD4A30AD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F63A120-AE85-4FBB-991B-3A0D831008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78AF1E-0CC3-4AD8-B32D-F095D1059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3268FD5-780E-4B91-A877-1391FCA19A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56607B2-1804-4D08-95A8-C5D3ECF5F2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E0A0373-427E-4572-AFA5-A9E61B4AC6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01C2893-A59A-403A-8D2E-1962A48900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9BE95E3-A051-4078-AD63-46C2B33241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E744FBC-1593-4E9A-B3E5-FB8F0DF83CF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17DED4B-FB7A-49B0-B38E-9A089F834B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D2F7D7E-09CF-4150-B996-C23956807D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A305569-B85F-405E-97F0-6F1A2F23BF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BC7D977-15C6-4918-B97E-2DCC142C38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D38A4A4-A9C6-4B62-8BD2-D709F8CDC7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3217C99-8D1D-4917-81C4-54B0B4BC7C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908C82D-21E8-4ECD-99CF-09738E352B5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21A572-372F-46BD-874E-A5332BD2E6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C734E18-6AEA-4C20-8A7F-FCE4DBF107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BC5AF40-D012-4593-9AC2-061F885C25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8810BFA-FC32-416B-9FFB-408CD449D5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B590547-BEE2-4145-B034-DF10C054B5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A2008C4-2928-47B0-A5C5-D820116AAF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8E0D3A9-B8AB-439A-9B00-55BAC86718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1181911-B189-44D9-A413-05A1936FC3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56AD306-9C94-4C3C-85D6-84C10E3006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6843FE1-D7F7-49C8-B61D-8628D9ADC5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C96DC96-1F95-40F3-9A02-BCD17AB838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34A7F3B-8323-475E-9C41-CDC1DCF5EB9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AF5A524-AB5E-4A52-AC0A-A8373BA764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E4CBF0-0CA7-4CA4-9004-2C5A639CE91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E216EC3-4104-4295-9C82-1D648457C9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56CF7B7-F489-4353-9179-74B8B0E003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8FF16A0-1AA0-4A3F-A63A-917560903F8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82A6047-6D9B-42B9-B084-F6DA7715233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0F0C20F-0E3F-4734-9DB2-1C37E737BD4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5A0D4EE-B11C-415D-8A64-CE5FC9293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C85EE77-7E1B-4CCB-A069-17A6BB9224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95991D1-AFE9-42AD-A9D0-6B6A0B0C84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27832AB-4F4E-4711-8188-51A3353768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F4A36C2-E43F-43D6-A1C9-B4A291D970E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8C2BCB7-A9C7-4400-9A34-181309F2ED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227EAAD-B3F2-4145-A12A-B2BEB71378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6DD80D-239D-4663-A1FF-3481095DDC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5CC2CDC-67A2-4EC0-90EE-1E928183BC8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D2555DE-3DE5-4E4F-89C0-4622253A0A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9F2E20D-D5DD-4AB3-B2EF-0AFE8C5FBD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C6E1E2E-6631-4AD5-9C5B-B6DFA119E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A47B275-4033-480F-95CD-42AEF224363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CC95284-EB85-4C08-B602-B3372A1366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9779FFF-E55E-4AD4-84C0-DDEF1F569DD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BB808A8-B36B-431F-B5F7-EE1FEA6AEEA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897AE92-AE0B-44E3-A372-61A6DE48C1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A1AC5AB-9574-4624-BC73-414BFA03AA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7CD8A71-0D69-4D6D-9A43-1FBD6B958A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5CF8315-9D54-4469-807D-374DB0EF429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B347569-310F-494C-90CC-01164F61EB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7855E88-93ED-48F2-9056-F651209AB1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3668EE8-A683-4924-A3BD-B1A971D41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A110C-6468-4193-92F9-C21E6C2336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0DF1F-5D53-40C6-9D5D-7852EAD78E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AB1B4-0CF2-4E74-AF0B-ABC36ABB7B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46F64-526A-4186-86A3-524EA54115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219A2-5C4B-4C82-AE38-9A721907388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DC40F-115B-40A7-8E22-4231B82C2C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0EABF-9FB1-42C3-90CC-83700CBA18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CE275-3895-4AA4-9FF2-7C294DB27D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008ED-9F4D-44CB-A22F-D238530AD28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63754-1740-4D64-8EFE-FE0BBCC035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685143-62B0-4E37-98D6-25D1633599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DC359-DB78-42BC-B164-35D55F058C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8AB23-8783-4E8A-9E55-A40B7E2266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24000" y="620640"/>
            <a:ext cx="8605800" cy="5164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5840" y="1392120"/>
            <a:ext cx="87152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400"/>
            </a:br>
            <a:br>
              <a:rPr sz="16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85840" y="981000"/>
            <a:ext cx="871524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28760" y="1392120"/>
            <a:ext cx="84294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413000"/>
            <a:ext cx="8640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24000" y="1125360"/>
            <a:ext cx="84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981000"/>
            <a:ext cx="79912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74" name="" descr=""/>
          <p:cNvPicPr/>
          <p:nvPr/>
        </p:nvPicPr>
        <p:blipFill>
          <a:blip r:embed="rId1"/>
          <a:stretch/>
        </p:blipFill>
        <p:spPr>
          <a:xfrm>
            <a:off x="0" y="0"/>
            <a:ext cx="9144000" cy="1368360"/>
          </a:xfrm>
          <a:prstGeom prst="rect">
            <a:avLst/>
          </a:prstGeom>
          <a:ln w="0">
            <a:noFill/>
          </a:ln>
        </p:spPr>
      </p:pic>
      <p:pic>
        <p:nvPicPr>
          <p:cNvPr id="875" name="" descr=""/>
          <p:cNvPicPr/>
          <p:nvPr/>
        </p:nvPicPr>
        <p:blipFill>
          <a:blip r:embed="rId2"/>
          <a:stretch/>
        </p:blipFill>
        <p:spPr>
          <a:xfrm>
            <a:off x="1258920" y="2060640"/>
            <a:ext cx="1297080" cy="1528560"/>
          </a:xfrm>
          <a:prstGeom prst="rect">
            <a:avLst/>
          </a:prstGeom>
          <a:ln w="0">
            <a:noFill/>
          </a:ln>
        </p:spPr>
      </p:pic>
      <p:pic>
        <p:nvPicPr>
          <p:cNvPr id="876" name="" descr=""/>
          <p:cNvPicPr/>
          <p:nvPr/>
        </p:nvPicPr>
        <p:blipFill>
          <a:blip r:embed="rId3"/>
          <a:stretch/>
        </p:blipFill>
        <p:spPr>
          <a:xfrm>
            <a:off x="6948360" y="1989000"/>
            <a:ext cx="1444680" cy="1573200"/>
          </a:xfrm>
          <a:prstGeom prst="rect">
            <a:avLst/>
          </a:prstGeom>
          <a:ln w="0">
            <a:noFill/>
          </a:ln>
        </p:spPr>
      </p:pic>
      <p:sp>
        <p:nvSpPr>
          <p:cNvPr id="877"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000000"/>
              </a:solidFill>
              <a:latin typeface="Times New Roman"/>
            </a:endParaRPr>
          </a:p>
        </p:txBody>
      </p:sp>
      <p:sp>
        <p:nvSpPr>
          <p:cNvPr id="878"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1268280"/>
            <a:ext cx="864216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57120" y="1392120"/>
            <a:ext cx="85726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43000"/>
            <a:ext cx="8605800" cy="4641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1:46Z</dcterms:modified>
  <cp:revision>156</cp:revision>
  <dc:subject/>
  <dc:title>Παρουσίαση του PowerPoint</dc:title>
</cp:coreProperties>
</file>